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6CBC9-70CB-4540-A916-691615873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799A8-FE44-4BF5-AFB9-67143C6C9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003E0-DE72-4B72-A4C7-C7AECCD99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B98F1-A9E0-460D-8B93-4EF8A0BD4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3D108-D8B7-40DB-868D-B3C6B9AB6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2F9D1-514A-4788-94B9-97184F2DD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7DF66-BA82-40F4-9605-826CC6967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16CCA-14E3-42D4-A0DE-1F98949FF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18A8A-577A-4599-B96E-8560D252F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8B4BB-21DC-45AD-A92D-917D4A105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574C9-E221-4EB0-A2C4-413EB5637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6BA58-3188-42FA-B083-FC78FC629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DE833-FB0A-47AE-99A7-469FA427010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590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98989"/>
                </a:solidFill>
                <a:latin typeface="Calibri"/>
              </a:rPr>
              <a:t>Слайд </a:t>
            </a:r>
            <a:fld id="{5F174217-6A63-49C7-90B5-EF792AD840D5}" type="slidenum">
              <a:rPr b="1" lang="en-US" sz="2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МИНИСТЕРСТВО НАУКИ И ВЫСШЕГО ОБРАЗОВАНИЯ РОССИЙСКОЙ ФЕДЕРАЦИИ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Федеральное государственное бюджетное образовательное учреждение высшего образования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«Рязанский государственный радиотехнический университет имени В.Ф. Уткина»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Кафедра промышленной электроник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Заголовок 1"/>
          <p:cNvSpPr/>
          <p:nvPr/>
        </p:nvSpPr>
        <p:spPr>
          <a:xfrm>
            <a:off x="0" y="1557360"/>
            <a:ext cx="9144000" cy="26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Презентация</a:t>
            </a:r>
            <a:br>
              <a:rPr sz="48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 выпускной квалификационной работе</a:t>
            </a:r>
            <a:br>
              <a:rPr sz="20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Тема выпускной квалификационной работы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Заголовок 1"/>
          <p:cNvSpPr/>
          <p:nvPr/>
        </p:nvSpPr>
        <p:spPr>
          <a:xfrm>
            <a:off x="0" y="4292640"/>
            <a:ext cx="91440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бучающийся: студент гр. 723М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етров И.С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уководитель: к.т.н., доцент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идоров А.А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Заголовок 1"/>
          <p:cNvSpPr/>
          <p:nvPr/>
        </p:nvSpPr>
        <p:spPr>
          <a:xfrm>
            <a:off x="0" y="638172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язань, 2019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Номер слайда 5"/>
          <p:cNvSpPr/>
          <p:nvPr/>
        </p:nvSpPr>
        <p:spPr>
          <a:xfrm>
            <a:off x="6553080" y="6356520"/>
            <a:ext cx="2590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98989"/>
                </a:solidFill>
                <a:latin typeface="Calibri"/>
              </a:rPr>
              <a:t>Слайд </a:t>
            </a:r>
            <a:fld id="{8F6CAF16-25A4-4F5C-92AE-F0016D319D74}" type="slidenum">
              <a:rPr b="1" lang="en-US" sz="2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Заголовок 1"/>
          <p:cNvSpPr/>
          <p:nvPr/>
        </p:nvSpPr>
        <p:spPr>
          <a:xfrm>
            <a:off x="0" y="11160"/>
            <a:ext cx="91440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Выводы по работе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Номер слайда 5"/>
          <p:cNvSpPr/>
          <p:nvPr/>
        </p:nvSpPr>
        <p:spPr>
          <a:xfrm>
            <a:off x="6553080" y="6356520"/>
            <a:ext cx="2590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98989"/>
                </a:solidFill>
                <a:latin typeface="Calibri"/>
              </a:rPr>
              <a:t>Слайд </a:t>
            </a:r>
            <a:fld id="{D1764E5A-91FE-4334-AF3E-5CA635DDCA84}" type="slidenum">
              <a:rPr b="1" lang="en-US" sz="2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Заголовок 1"/>
          <p:cNvSpPr/>
          <p:nvPr/>
        </p:nvSpPr>
        <p:spPr>
          <a:xfrm>
            <a:off x="0" y="11160"/>
            <a:ext cx="91440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убликации по работе (для магистров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Заголовок 1"/>
          <p:cNvSpPr/>
          <p:nvPr/>
        </p:nvSpPr>
        <p:spPr>
          <a:xfrm>
            <a:off x="0" y="981000"/>
            <a:ext cx="914400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пробация результатов работы производилась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 2-х конференциях:</a:t>
            </a:r>
            <a:br>
              <a:rPr sz="28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Библиографическая ссылка 1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Библиографическая ссылка 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Заголовок 1"/>
          <p:cNvSpPr/>
          <p:nvPr/>
        </p:nvSpPr>
        <p:spPr>
          <a:xfrm>
            <a:off x="0" y="3716280"/>
            <a:ext cx="914400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езультаты работы были опубликованы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 2-х научных статьях:</a:t>
            </a:r>
            <a:br>
              <a:rPr sz="28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Библиографическая ссылка 1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Библиографическая ссылка 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Номер слайда 5"/>
          <p:cNvSpPr/>
          <p:nvPr/>
        </p:nvSpPr>
        <p:spPr>
          <a:xfrm>
            <a:off x="6553080" y="6356520"/>
            <a:ext cx="2590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98989"/>
                </a:solidFill>
                <a:latin typeface="Calibri"/>
              </a:rPr>
              <a:t>Слайд </a:t>
            </a:r>
            <a:fld id="{0AB3415D-CD4F-4510-BE82-C98A4B9B6749}" type="slidenum">
              <a:rPr b="1" lang="en-US" sz="2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48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Актуальность работ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Заголовок 1"/>
          <p:cNvSpPr/>
          <p:nvPr/>
        </p:nvSpPr>
        <p:spPr>
          <a:xfrm>
            <a:off x="0" y="3357720"/>
            <a:ext cx="9144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Научная новизна работы (для магистров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Номер слайда 5"/>
          <p:cNvSpPr/>
          <p:nvPr/>
        </p:nvSpPr>
        <p:spPr>
          <a:xfrm>
            <a:off x="6553080" y="6356520"/>
            <a:ext cx="2590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98989"/>
                </a:solidFill>
                <a:latin typeface="Calibri"/>
              </a:rPr>
              <a:t>Слайд </a:t>
            </a:r>
            <a:fld id="{E3A2AC5B-5C7C-4AC8-B50E-8892D34AD7CE}" type="slidenum">
              <a:rPr b="1" lang="en-US" sz="2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Заголовок 1"/>
          <p:cNvSpPr/>
          <p:nvPr/>
        </p:nvSpPr>
        <p:spPr>
          <a:xfrm>
            <a:off x="0" y="0"/>
            <a:ext cx="9144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Цель и задачи работы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Номер слайда 5"/>
          <p:cNvSpPr/>
          <p:nvPr/>
        </p:nvSpPr>
        <p:spPr>
          <a:xfrm>
            <a:off x="6553080" y="6356520"/>
            <a:ext cx="2590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98989"/>
                </a:solidFill>
                <a:latin typeface="Calibri"/>
              </a:rPr>
              <a:t>Слайд </a:t>
            </a:r>
            <a:fld id="{AF0560BC-BED1-4358-A244-0A9AA6A7C612}" type="slidenum">
              <a:rPr b="1" lang="en-US" sz="2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10800"/>
            <a:ext cx="9144000" cy="53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Теоретическая часть (кратко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Номер слайда 5"/>
          <p:cNvSpPr/>
          <p:nvPr/>
        </p:nvSpPr>
        <p:spPr>
          <a:xfrm>
            <a:off x="6553080" y="6356520"/>
            <a:ext cx="2590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98989"/>
                </a:solidFill>
                <a:latin typeface="Calibri"/>
              </a:rPr>
              <a:t>Слайд </a:t>
            </a:r>
            <a:fld id="{164EE197-BCD6-41FD-AC3B-630C37944714}" type="slidenum">
              <a:rPr b="1" lang="en-US" sz="2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Заголовок 1"/>
          <p:cNvSpPr/>
          <p:nvPr/>
        </p:nvSpPr>
        <p:spPr>
          <a:xfrm>
            <a:off x="0" y="11160"/>
            <a:ext cx="91440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Расчетная часть (кратко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Номер слайда 5"/>
          <p:cNvSpPr/>
          <p:nvPr/>
        </p:nvSpPr>
        <p:spPr>
          <a:xfrm>
            <a:off x="6553080" y="6356520"/>
            <a:ext cx="2590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98989"/>
                </a:solidFill>
                <a:latin typeface="Calibri"/>
              </a:rPr>
              <a:t>Слайд </a:t>
            </a:r>
            <a:fld id="{A6B89C40-60A2-4F99-943A-9B705DF4957D}" type="slidenum">
              <a:rPr b="1" lang="en-US" sz="2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Заголовок 1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Результаты работы (подробно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Номер слайда 5"/>
          <p:cNvSpPr/>
          <p:nvPr/>
        </p:nvSpPr>
        <p:spPr>
          <a:xfrm>
            <a:off x="6553080" y="6356520"/>
            <a:ext cx="2590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98989"/>
                </a:solidFill>
                <a:latin typeface="Calibri"/>
              </a:rPr>
              <a:t>Слайд </a:t>
            </a:r>
            <a:fld id="{B3CB0478-8DC9-4AD1-87EB-8CA1A49541E7}" type="slidenum">
              <a:rPr b="1" lang="en-US" sz="2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Заголовок 1"/>
          <p:cNvSpPr/>
          <p:nvPr/>
        </p:nvSpPr>
        <p:spPr>
          <a:xfrm>
            <a:off x="0" y="11160"/>
            <a:ext cx="91440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Результаты работы (подробно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Номер слайда 5"/>
          <p:cNvSpPr/>
          <p:nvPr/>
        </p:nvSpPr>
        <p:spPr>
          <a:xfrm>
            <a:off x="6553080" y="6356520"/>
            <a:ext cx="2590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98989"/>
                </a:solidFill>
                <a:latin typeface="Calibri"/>
              </a:rPr>
              <a:t>Слайд </a:t>
            </a:r>
            <a:fld id="{4CA1831F-306A-4F63-A2D9-1E05018AF829}" type="slidenum">
              <a:rPr b="1" lang="en-US" sz="2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Заголовок 1"/>
          <p:cNvSpPr/>
          <p:nvPr/>
        </p:nvSpPr>
        <p:spPr>
          <a:xfrm>
            <a:off x="0" y="11160"/>
            <a:ext cx="91440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Результаты работы (подробно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Номер слайда 5"/>
          <p:cNvSpPr/>
          <p:nvPr/>
        </p:nvSpPr>
        <p:spPr>
          <a:xfrm>
            <a:off x="6553080" y="6356520"/>
            <a:ext cx="2590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98989"/>
                </a:solidFill>
                <a:latin typeface="Calibri"/>
              </a:rPr>
              <a:t>Слайд </a:t>
            </a:r>
            <a:fld id="{D6A8A569-B8B5-49B3-926D-BCEFB0829660}" type="slidenum">
              <a:rPr b="1" lang="en-US" sz="2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Заголовок 1"/>
          <p:cNvSpPr/>
          <p:nvPr/>
        </p:nvSpPr>
        <p:spPr>
          <a:xfrm>
            <a:off x="0" y="11160"/>
            <a:ext cx="91440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Результаты работы (подробно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6-19T06:13:54Z</dcterms:created>
  <dc:creator>Пользователь Windows</dc:creator>
  <dc:description/>
  <dc:language>en-US</dc:language>
  <cp:lastModifiedBy>ASUS</cp:lastModifiedBy>
  <dcterms:modified xsi:type="dcterms:W3CDTF">2019-06-20T03:33:41Z</dcterms:modified>
  <cp:revision>23</cp:revision>
  <dc:subject/>
  <dc:title>МИНИСТЕРСТВО НАУКИ И ВЫСШЕГО ОБРАЗОВАНИЯ  РОССИЙСКОЙ ФЕДЕРАЦИИ Федеральное государственное бюджетное образовательное учреждение  высшего образования  «Рязанский государственный радиотехнический университет имени В.Ф. Уткина» Кафедра промышленной электроники</dc:title>
</cp:coreProperties>
</file>